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-457200" y="-76320"/>
          <a:ext cx="7763040" cy="929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-76320"/>
                    <a:ext cx="7763040" cy="92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2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3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1085760"/>
          <a:ext cx="6858000" cy="69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5760"/>
                    <a:ext cx="6858000" cy="69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4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52560"/>
          <a:ext cx="6858000" cy="72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2560"/>
                    <a:ext cx="6858000" cy="72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5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1162080"/>
          <a:ext cx="685800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2080"/>
                    <a:ext cx="685800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52280"/>
          <a:ext cx="6858000" cy="899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899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7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6440" y="1733400"/>
            <a:ext cx="1130400" cy="1308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6440" y="6102360"/>
            <a:ext cx="1130400" cy="1308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9440" y="2421000"/>
            <a:ext cx="187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9440" y="6859440"/>
            <a:ext cx="187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3480" y="1733400"/>
            <a:ext cx="1244880" cy="1308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30720" y="6102360"/>
            <a:ext cx="1244520" cy="13082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28360" y="2230560"/>
            <a:ext cx="139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days =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29080" y="6624720"/>
            <a:ext cx="156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 days =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35600" y="81000"/>
            <a:ext cx="4180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t or Meat food produc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1440" y="4475160"/>
            <a:ext cx="23486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iry Produc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760" y="1965240"/>
            <a:ext cx="38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6334200"/>
            <a:ext cx="38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320" y="2168640"/>
            <a:ext cx="989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7520" y="6562800"/>
            <a:ext cx="989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O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44480" y="2203560"/>
            <a:ext cx="92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4480" y="6597720"/>
            <a:ext cx="92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94160" y="8839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30T15:25:04Z</dcterms:created>
  <dc:creator>Soldier Support Institute</dc:creator>
  <dc:description/>
  <dc:language>en-US</dc:language>
  <cp:lastModifiedBy>Administrator</cp:lastModifiedBy>
  <cp:lastPrinted>2000-03-17T15:22:26Z</cp:lastPrinted>
  <dcterms:modified xsi:type="dcterms:W3CDTF">2004-09-16T14:11:24Z</dcterms:modified>
  <cp:revision>8</cp:revision>
  <dc:subject/>
  <dc:title>No Slide Title</dc:title>
</cp:coreProperties>
</file>